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D26-FCCA-4072-BEF2-D9F2AC5A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90B-C09F-4EA5-94EB-E426E682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D68-1B7C-4AD9-A4C9-901CE2CF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364-0361-450D-A52C-6C163F0F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F78-70D1-4FA1-8478-B075D92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78-933B-47A9-9F0A-1C44BD9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57A-B62E-4CDB-99E3-8ED4F075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428-5C5E-4704-8991-B406639D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59D-B28C-4658-8783-8883300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914-6CCD-4AFF-8A86-6BB4C52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566-AD9A-463F-A0EF-8E01A80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84-BD94-49F0-B33B-C11EAF4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CD6-BF98-4389-96FC-D4ADD79C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ماءُ ما ص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حينُ خبز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صبَحنا سُكن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زيت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عطى السراجُ نور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فَرشنا نورَ الله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لولا الحب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كان القلبُ حي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عَرفنا حُبَ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نور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اعطى الوردُ عِطر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ما نثرنا عِطرَ الله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7T13:01:03Z</dcterms:modified>
  <cp:revision>3</cp:revision>
  <dc:subject/>
  <dc:title>PowerPoint Presentation</dc:title>
</cp:coreProperties>
</file>